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0.jpeg" ContentType="image/jpe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B25A-B816-43A9-A062-E99985B66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5637-BCE2-44D4-9247-202046DE7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09A1AD-03E0-4215-9758-A2AC92825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0036B3-6ACE-4908-A8DD-89B85E811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71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0D7DC1-481F-4668-89E5-746613BFB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F9A789-F80B-4F3A-92D2-AEE6B858C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CD0E8A-F83E-46AE-A142-E034F2AD6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1DC8D7-9F9E-4D8A-AE22-55282A069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E26EF4-9184-446B-A5B7-DFF0FBE46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8DE7F3-077B-4F29-B4C6-E20FA083E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767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821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713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767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59821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DF17E0-DB1B-45D2-ABCA-03BE61377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E60A0A-EF25-4365-B3B7-C34864091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711A-11AA-4BD1-8D7D-C2ACD9102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EDC5AD-FE46-4FFE-97BE-1DB5BE8F1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4560CB-4512-47B2-B327-D3E25A47F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AD8F3E-BC12-4E29-A0DE-AE3219CC0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3C8A32-1B2A-45A8-8071-A8C19260A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571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D17A5F-62A7-4878-B889-24D3DC11F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DE2DF7-5A39-492D-B5D9-757E2510E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F7FA18-9B0A-4422-9792-1BB6E0870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6EB367-65E8-4339-BA55-5081DD923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0A8025-BA24-4C4E-A54B-D23281D81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A9C811-867F-4144-9176-9CB591728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21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713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21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3664-9BAC-47DC-B284-489E6AEDB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2767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59821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5713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2767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59821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612DCF-802E-4101-B1ED-FE439338B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CE0D5D-4A76-4B06-99A9-EF23AB94D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subTitle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541D23-8B37-4ABE-BDB7-16789DE94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24B49E-A2DF-4F6D-BEDE-9F08E4F7B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B1EF5F-C8D1-4347-8D5E-34EA3D39A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7B808F-0BF9-4110-AFBE-5D678409B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571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F1D124-F0E8-45FF-8E31-9538A77D4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9713C9-9563-4BC3-A867-D91F4DACE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2D68E6-01EC-4111-8114-779A19832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F50E8E-F58A-4A84-875E-DC04B78F4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8F7D5-FD99-4738-BA96-DE1FB50CA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B6FAAE-45AE-4674-93B6-55A3F3C90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5DBDB8-4931-4BC6-B99A-C5D10FA9C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32767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59821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5713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76" name="PlaceHolder 6"/>
          <p:cNvSpPr>
            <a:spLocks noGrp="1"/>
          </p:cNvSpPr>
          <p:nvPr>
            <p:ph/>
          </p:nvPr>
        </p:nvSpPr>
        <p:spPr>
          <a:xfrm>
            <a:off x="32767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77" name="PlaceHolder 7"/>
          <p:cNvSpPr>
            <a:spLocks noGrp="1"/>
          </p:cNvSpPr>
          <p:nvPr>
            <p:ph/>
          </p:nvPr>
        </p:nvSpPr>
        <p:spPr>
          <a:xfrm>
            <a:off x="59821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A697F2-9759-4B37-ADAC-3E347076C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18A956-C9F7-4B43-8613-69A5B70B3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5DA3DD-12A0-4F3B-8818-D05E7D5F7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52DD8B-29CB-420A-B7C2-5EEFF0F37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F746E6-CBD2-43CB-8551-DC9FCED58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AAFA84-9C00-46BC-870D-315D54425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71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E5B032-41AA-4879-90D8-BB8BC800B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32B6E7-AFB5-49BB-B625-FF5AA339A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5C36E-0D5B-44A3-BA3B-E2BA8AF5B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01D4A2-4FBD-40CC-A31E-047D8CAA8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9007F8-EBE4-4BD9-9AC6-89A87AE71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6002DC-65A2-499C-B450-6099D7B8A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4FB466-C13F-49A2-BF68-6C7607D45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767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59821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713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767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59821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D1B2C1-C20A-4039-AAF3-D2F8B778C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FC7EAC-32B9-4D59-B428-F052BFE26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subTitle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BC1B00-4F9B-4426-8AE3-4A9EC9401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D3F673-7238-4789-A558-65BE44F92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39E432-5DC5-4571-836B-85CA22D93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80EA98-9DDC-47FC-9EF4-683D6FFC0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E67AA-F7CB-47AC-A7D9-0E9331396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ubTitle"/>
          </p:nvPr>
        </p:nvSpPr>
        <p:spPr>
          <a:xfrm>
            <a:off x="571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36ABA1-63EB-4DA7-A75B-13E9AFF54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2AEA94-B943-4909-A47D-5BDE487A9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AEA222-821C-4227-B232-2CE090FCE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66752E-44D8-4E77-AECF-36642CBCF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690390-6337-4CBF-BD52-D3286DEF4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33062C-ABF5-4041-82E0-210985579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32767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59821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5713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/>
          </p:nvPr>
        </p:nvSpPr>
        <p:spPr>
          <a:xfrm>
            <a:off x="32767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64" name="PlaceHolder 7"/>
          <p:cNvSpPr>
            <a:spLocks noGrp="1"/>
          </p:cNvSpPr>
          <p:nvPr>
            <p:ph/>
          </p:nvPr>
        </p:nvSpPr>
        <p:spPr>
          <a:xfrm>
            <a:off x="59821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AFBDD5-0FE0-4DB2-9D6D-DA786A9FC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5BDA3D-975D-4659-913D-DB86C7D7F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983762-B3BD-46EA-8285-E04A55C6E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D83757-DAFB-4F0B-BC9A-47706E246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CC7FC-6760-4E09-9934-B41E65E75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0F86AE-61D3-47A7-BD1C-C1C297AE9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B0E690F-D520-4659-ABE9-795BB9715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71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19235EF-03DF-4B87-9F8D-DDED23B9A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B5ADA9-87AD-4ACF-9B11-92849CBE8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A66ACC7-095F-4DB7-9006-F208DB538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08E1BE-57FC-4D74-B158-306A53819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331495-901D-4EAB-9FAE-DBF2B60D1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529F5C-DFD6-4B64-9598-89978721D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767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59821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713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767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59821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C584421-D8E6-4937-9B34-D505D31A6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6CE4DAB-5C18-44C1-A167-8E5186182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F3C2B-C5CA-4416-B705-61A0A76D6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subTitle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1E7F389-CE62-4DEB-981E-C9182AFC2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40065A3-44EE-428E-8A5B-F323E2C7B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9F825B3-F1E6-4654-832C-5D18276FB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78450D0-5310-4523-941F-8E2E7B582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ubTitle"/>
          </p:nvPr>
        </p:nvSpPr>
        <p:spPr>
          <a:xfrm>
            <a:off x="571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59CEF1E-17BD-4FD6-9F37-B2F7479F1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7642487-BC97-4B29-B0E8-A1CCCF41A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4CC8EEE-5E58-411E-AB07-096E3113E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A78C580-28A7-48D4-A253-B31571265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85BBD08-0F91-4601-B197-B4CB82AD8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617C254-CA50-46F7-91BD-1223026CF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1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28F9A-F83F-447E-ADE6-8F08D98C0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32767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9821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5713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49" name="PlaceHolder 6"/>
          <p:cNvSpPr>
            <a:spLocks noGrp="1"/>
          </p:cNvSpPr>
          <p:nvPr>
            <p:ph/>
          </p:nvPr>
        </p:nvSpPr>
        <p:spPr>
          <a:xfrm>
            <a:off x="32767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50" name="PlaceHolder 7"/>
          <p:cNvSpPr>
            <a:spLocks noGrp="1"/>
          </p:cNvSpPr>
          <p:nvPr>
            <p:ph/>
          </p:nvPr>
        </p:nvSpPr>
        <p:spPr>
          <a:xfrm>
            <a:off x="59821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041A13E-C6C1-43D6-993D-B59329AF3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D0420-EC6E-4D24-B5CB-B9A5879C3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6E46-E25C-4B2B-A9A6-1457F1D5A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9C1AB-AECC-4431-96DF-B568E5AC7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146B9-56E2-4E1E-912C-AC103B66D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C3EC3-BD34-4A53-92DA-EC540523A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844AC-AF86-4524-88BB-77E247806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821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713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821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62D7B-05C4-4EDC-9811-62273A439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6388FD-446D-4C99-BCC9-CB4466D63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5649F3-196F-4005-A246-B8A22ADF0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C085DA-82C0-4C88-BBB1-ED08C03EC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582018-C66F-47C3-8A6F-CAC7F5F49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BC3FA2-35F8-4245-B186-FE2E41426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3708-9E1B-461A-97C1-2AC865B64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571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F5BE78-E684-498C-8630-117C3970B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9E011C-1EE9-4F2D-8B08-C426782ED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323047-DA24-4323-A9ED-927FC3BBE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212BA6-FDDE-4E06-AF0B-07F0B8D6C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3E96D5-394E-4FFF-A815-8CD2F4345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2742F3-3F87-4975-8048-13F1296B7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767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9821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5713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767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9821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23D731-B483-43CB-AF63-6C28FC67F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A37F69-D81E-4BC7-851C-0FC16D2E1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55AC95-341B-470F-B160-4E763D042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73B396-729D-44A7-9841-CBCA256A2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C647-92D1-42A3-928B-9430FDE5D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4F0716-2215-4316-B759-5381FA70B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D875BE-D874-49B3-AAB1-A5BD166C9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571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BE2877-9081-497E-8624-95510F1CC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91E042-C9AD-412A-8841-1FE756C08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902863-6BE4-4F34-9C75-9113CB58F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CA60AE-C605-4BBF-A492-9790BF9AD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5825D0-9275-4614-86B2-1D250B3D0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45BAB9-97CF-4F28-A33E-DB549C36C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767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9821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5713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767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59821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D83C5C-8C2D-48C3-A812-AD37DDA78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CBD13E-C8E7-4EFD-9997-3B089045F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2263-D60E-4EB0-889C-A24217B8A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E611EB-69BF-4107-B5E8-3E18DBAC5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2F27ED-D040-4EAE-8FED-3FEED8106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B70FAC-DFE7-4E3B-90A7-F505D4D7B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281263-4B79-4A81-AF98-6559F9259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571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ACA627-3D5B-4577-814F-A1251C561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198800-CD9B-4078-B37E-D9C1E0FA3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1667CE-8398-4E87-8761-20B4D0084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160963-8C79-4509-9C78-A4A3395C3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C4F59A-4234-4C0F-90CC-24F847C4D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B7AF46-1863-4BED-9721-9E7FBA602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71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E59F-8547-4312-A22A-129E30C6A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767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59821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5713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767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59821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BF6C6B-EBB4-4AD0-8E86-E506E475F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57017C-2EF5-445E-8E04-3403A62B0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7D0B8B-0F3E-4B10-8A74-6A3516870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9F9F94-9ACE-4022-B6C5-7ED1553B8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A9C371-BD65-4C5A-AC44-BB17CC6F8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9A53D6-ABE0-4F31-AED2-4EBCF4A91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571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74B959-56EA-4A4F-B05C-EC9F53A86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58C54D-2CAC-45AF-8EDA-807A2EEDE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3D2055-EADA-4941-93D2-05C4BF3F5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37AEA5-94AF-4658-88AC-1E2E51A65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D7FB-2F42-4A2D-97C8-B699FDD9D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7719C0-EDB4-4F9F-9576-EA3797041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829872-F1CE-402E-BE42-E4D922B9A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767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9821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5713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767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59821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1682EE-519B-4EB1-BCA0-4D225377C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112903-A78A-4CC0-94ED-54E2E880D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66EDE3-8135-4545-B260-B0EA16212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56F297-FB29-4F1E-BD1F-5524096C8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F8CFD3-4E9D-4CC4-9888-319C40345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EAB916-2552-4FD7-A2B6-476E41BF8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571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D7E990-4DC3-47E9-A919-0000C0B83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D0DD1A-3B2F-42DF-9E4E-426ADF748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F607-2057-4341-BB98-030B65923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C2B45A-A287-4B8D-A054-2F580F4C5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46B6E4-9A00-4C03-88C9-9A4C0B732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C4D552-FBB2-4B0F-ABE8-9BD9E45F5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A28992-FEAD-43ED-911F-732C066A2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767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9821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5713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767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9821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16824D-F0A8-4ACC-9113-833A94803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750F8A-149D-432D-AB01-31CCA4990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7389B6-1268-4DFD-92B1-5DA01FA06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94A573-FBD1-410E-B8EB-D94414DF0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CB1778-D4B2-4FB6-91F5-6F4303E19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9E80A5-78A7-4103-A0D8-13313F107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5C7A-B075-4AAE-B2C7-B82179503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71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94FA11-8AC0-4DF0-BD19-150E10A27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2F0F16-3DDD-4242-944B-9D84D17E1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4E1BD4-F077-4846-82FF-02E104438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F881F6-D6D6-4B9D-B8B8-CA42C399D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4A6BC4-A4C6-44C8-9020-92EE33D26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2DCCC0-9F0E-492D-895A-F15AFE5AF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767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59821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713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767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59821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32E4D4-DF9A-4784-A34F-FAE0F6C95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DC447A-B6D5-4FC5-916D-65D3ED954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C72DD9-2F99-46E3-A89D-2DE86729D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376456-9FB6-4E19-9537-9A9F7C4AB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7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7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45.xml"/><Relationship Id="rId8" Type="http://schemas.openxmlformats.org/officeDocument/2006/relationships/slideLayout" Target="../slideLayouts/slideLayout146.xml"/><Relationship Id="rId9" Type="http://schemas.openxmlformats.org/officeDocument/2006/relationships/slideLayout" Target="../slideLayouts/slideLayout147.xml"/><Relationship Id="rId10" Type="http://schemas.openxmlformats.org/officeDocument/2006/relationships/slideLayout" Target="../slideLayouts/slideLayout148.xml"/><Relationship Id="rId11" Type="http://schemas.openxmlformats.org/officeDocument/2006/relationships/slideLayout" Target="../slideLayouts/slideLayout149.xml"/><Relationship Id="rId12" Type="http://schemas.openxmlformats.org/officeDocument/2006/relationships/slideLayout" Target="../slideLayouts/slideLayout150.xml"/><Relationship Id="rId13" Type="http://schemas.openxmlformats.org/officeDocument/2006/relationships/slideLayout" Target="../slideLayouts/slideLayout151.xml"/><Relationship Id="rId14" Type="http://schemas.openxmlformats.org/officeDocument/2006/relationships/slideLayout" Target="../slideLayouts/slideLayout152.xml"/><Relationship Id="rId15" Type="http://schemas.openxmlformats.org/officeDocument/2006/relationships/slideLayout" Target="../slideLayouts/slideLayout153.xml"/><Relationship Id="rId16" Type="http://schemas.openxmlformats.org/officeDocument/2006/relationships/slideLayout" Target="../slideLayouts/slideLayout154.xml"/><Relationship Id="rId17" Type="http://schemas.openxmlformats.org/officeDocument/2006/relationships/slideLayout" Target="../slideLayouts/slideLayout155.xml"/><Relationship Id="rId18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37.xml"/><Relationship Id="rId9" Type="http://schemas.openxmlformats.org/officeDocument/2006/relationships/slideLayout" Target="../slideLayouts/slideLayout38.xml"/><Relationship Id="rId10" Type="http://schemas.openxmlformats.org/officeDocument/2006/relationships/slideLayout" Target="../slideLayouts/slideLayout39.xml"/><Relationship Id="rId11" Type="http://schemas.openxmlformats.org/officeDocument/2006/relationships/slideLayout" Target="../slideLayouts/slideLayout40.xml"/><Relationship Id="rId12" Type="http://schemas.openxmlformats.org/officeDocument/2006/relationships/slideLayout" Target="../slideLayouts/slideLayout41.xml"/><Relationship Id="rId13" Type="http://schemas.openxmlformats.org/officeDocument/2006/relationships/slideLayout" Target="../slideLayouts/slideLayout42.xml"/><Relationship Id="rId14" Type="http://schemas.openxmlformats.org/officeDocument/2006/relationships/slideLayout" Target="../slideLayouts/slideLayout43.xml"/><Relationship Id="rId15" Type="http://schemas.openxmlformats.org/officeDocument/2006/relationships/slideLayout" Target="../slideLayouts/slideLayout44.xml"/><Relationship Id="rId16" Type="http://schemas.openxmlformats.org/officeDocument/2006/relationships/slideLayout" Target="../slideLayouts/slideLayout45.xml"/><Relationship Id="rId17" Type="http://schemas.openxmlformats.org/officeDocument/2006/relationships/slideLayout" Target="../slideLayouts/slideLayout46.xml"/><Relationship Id="rId18" Type="http://schemas.openxmlformats.org/officeDocument/2006/relationships/slideLayout" Target="../slideLayouts/slideLayout47.xml"/><Relationship Id="rId19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TextPag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5716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sto MT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1" marL="89604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2" marL="13438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3" marL="179208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4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5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6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2"/>
          </p:nvPr>
        </p:nvSpPr>
        <p:spPr>
          <a:xfrm>
            <a:off x="53722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1200" spc="-1" strike="noStrike">
                <a:solidFill>
                  <a:srgbClr val="82682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200" spc="-1" strike="noStrike">
                <a:solidFill>
                  <a:srgbClr val="82682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046400" y="6159600"/>
            <a:ext cx="105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1200" spc="-1" strike="noStrike">
                <a:solidFill>
                  <a:srgbClr val="82682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138344-52A1-4B65-AA09-340096A75C8E}" type="slidenum">
              <a:rPr b="0" lang="es-ES" sz="1200" spc="-1" strike="noStrike">
                <a:solidFill>
                  <a:srgbClr val="82682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11" descr="TitlePag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7" descr="shortRule.png"/>
          <p:cNvPicPr/>
          <p:nvPr/>
        </p:nvPicPr>
        <p:blipFill>
          <a:blip r:embed="rId4"/>
          <a:stretch/>
        </p:blipFill>
        <p:spPr>
          <a:xfrm>
            <a:off x="3324240" y="4665600"/>
            <a:ext cx="2495520" cy="954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40000"/>
              </a:srgbClr>
            </a:outerShdw>
          </a:effectLst>
        </p:spPr>
      </p:pic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sto MT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1" marL="89604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2" marL="13438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3" marL="179208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4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5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6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 type="dt" idx="28"/>
          </p:nvPr>
        </p:nvSpPr>
        <p:spPr>
          <a:xfrm>
            <a:off x="53722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1200" spc="-1" strike="noStrike">
                <a:solidFill>
                  <a:srgbClr val="82682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200" spc="-1" strike="noStrike">
                <a:solidFill>
                  <a:srgbClr val="82682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 type="ftr" idx="29"/>
          </p:nvPr>
        </p:nvSpPr>
        <p:spPr>
          <a:xfrm>
            <a:off x="5716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 type="sldNum" idx="30"/>
          </p:nvPr>
        </p:nvSpPr>
        <p:spPr>
          <a:xfrm>
            <a:off x="4046400" y="6159600"/>
            <a:ext cx="105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1200" spc="-1" strike="noStrike">
                <a:solidFill>
                  <a:srgbClr val="82682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93B4A0-196D-4B59-9CF4-A8BABC4E5275}" type="slidenum">
              <a:rPr b="0" lang="es-ES" sz="1200" spc="-1" strike="noStrike">
                <a:solidFill>
                  <a:srgbClr val="82682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Picture 11" descr="TitlePag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10" descr="parAvion.png"/>
          <p:cNvPicPr/>
          <p:nvPr/>
        </p:nvPicPr>
        <p:blipFill>
          <a:blip r:embed="rId4"/>
          <a:stretch/>
        </p:blipFill>
        <p:spPr>
          <a:xfrm rot="307800">
            <a:off x="6835680" y="279000"/>
            <a:ext cx="1695600" cy="48420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7" descr="shortRule.png"/>
          <p:cNvPicPr/>
          <p:nvPr/>
        </p:nvPicPr>
        <p:blipFill>
          <a:blip r:embed="rId5"/>
          <a:stretch/>
        </p:blipFill>
        <p:spPr>
          <a:xfrm>
            <a:off x="3324240" y="4665600"/>
            <a:ext cx="2495520" cy="954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40000"/>
              </a:srgbClr>
            </a:outerShdw>
          </a:effectLst>
        </p:spPr>
      </p:pic>
      <p:pic>
        <p:nvPicPr>
          <p:cNvPr id="436" name="Picture 12" descr="parAvion.png"/>
          <p:cNvPicPr/>
          <p:nvPr/>
        </p:nvPicPr>
        <p:blipFill>
          <a:blip r:embed="rId6"/>
          <a:stretch/>
        </p:blipFill>
        <p:spPr>
          <a:xfrm rot="20785200">
            <a:off x="2865600" y="3182400"/>
            <a:ext cx="1697040" cy="484200"/>
          </a:xfrm>
          <a:prstGeom prst="rect">
            <a:avLst/>
          </a:prstGeom>
          <a:ln w="0">
            <a:noFill/>
          </a:ln>
        </p:spPr>
      </p:pic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sto MT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1" marL="89604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2" marL="13438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3" marL="179208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4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5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6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 type="dt" idx="31"/>
          </p:nvPr>
        </p:nvSpPr>
        <p:spPr>
          <a:xfrm>
            <a:off x="53722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1200" spc="-1" strike="noStrike">
                <a:solidFill>
                  <a:srgbClr val="82682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200" spc="-1" strike="noStrike">
                <a:solidFill>
                  <a:srgbClr val="82682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 type="ftr" idx="32"/>
          </p:nvPr>
        </p:nvSpPr>
        <p:spPr>
          <a:xfrm>
            <a:off x="5716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 type="sldNum" idx="33"/>
          </p:nvPr>
        </p:nvSpPr>
        <p:spPr>
          <a:xfrm>
            <a:off x="4046400" y="6159600"/>
            <a:ext cx="105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1200" spc="-1" strike="noStrike">
                <a:solidFill>
                  <a:srgbClr val="82682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0F3887-E569-4F7C-9D3B-3687093B15A3}" type="slidenum">
              <a:rPr b="0" lang="es-ES" sz="1200" spc="-1" strike="noStrike">
                <a:solidFill>
                  <a:srgbClr val="82682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Picture 11" descr="TitlePag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sto MT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1" marL="89604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2" marL="13438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3" marL="179208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4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5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6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53722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1200" spc="-1" strike="noStrike">
                <a:solidFill>
                  <a:srgbClr val="82682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200" spc="-1" strike="noStrike">
                <a:solidFill>
                  <a:srgbClr val="82682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5716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4046400" y="6159600"/>
            <a:ext cx="105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1200" spc="-1" strike="noStrike">
                <a:solidFill>
                  <a:srgbClr val="82682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A01AA7-DF16-4670-A89A-71287886069A}" type="slidenum">
              <a:rPr b="0" lang="es-ES" sz="1200" spc="-1" strike="noStrike">
                <a:solidFill>
                  <a:srgbClr val="82682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Picture 11" descr="TitlePag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14" descr="parAvion.png"/>
          <p:cNvPicPr/>
          <p:nvPr/>
        </p:nvPicPr>
        <p:blipFill>
          <a:blip r:embed="rId4"/>
          <a:stretch/>
        </p:blipFill>
        <p:spPr>
          <a:xfrm rot="307800">
            <a:off x="7427880" y="2619000"/>
            <a:ext cx="1581120" cy="45072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10" descr="pictureStamp-Frame.png"/>
          <p:cNvPicPr/>
          <p:nvPr/>
        </p:nvPicPr>
        <p:blipFill>
          <a:blip r:embed="rId5"/>
          <a:stretch/>
        </p:blipFill>
        <p:spPr>
          <a:xfrm rot="322200">
            <a:off x="6338880" y="604800"/>
            <a:ext cx="1611360" cy="202428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12" descr="pictureStamp-Frame.png"/>
          <p:cNvPicPr/>
          <p:nvPr/>
        </p:nvPicPr>
        <p:blipFill>
          <a:blip r:embed="rId6"/>
          <a:stretch/>
        </p:blipFill>
        <p:spPr>
          <a:xfrm rot="322200">
            <a:off x="4890960" y="985680"/>
            <a:ext cx="1611360" cy="2024280"/>
          </a:xfrm>
          <a:prstGeom prst="rect">
            <a:avLst/>
          </a:prstGeom>
          <a:ln w="0">
            <a:noFill/>
          </a:ln>
        </p:spPr>
      </p:pic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sto MT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1" marL="89604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2" marL="13438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3" marL="179208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4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5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6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 type="dt" idx="37"/>
          </p:nvPr>
        </p:nvSpPr>
        <p:spPr>
          <a:xfrm>
            <a:off x="53722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1200" spc="-1" strike="noStrike">
                <a:solidFill>
                  <a:srgbClr val="82682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200" spc="-1" strike="noStrike">
                <a:solidFill>
                  <a:srgbClr val="82682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 type="ftr" idx="38"/>
          </p:nvPr>
        </p:nvSpPr>
        <p:spPr>
          <a:xfrm>
            <a:off x="5716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 type="sldNum" idx="39"/>
          </p:nvPr>
        </p:nvSpPr>
        <p:spPr>
          <a:xfrm>
            <a:off x="4046400" y="6159600"/>
            <a:ext cx="105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1200" spc="-1" strike="noStrike">
                <a:solidFill>
                  <a:srgbClr val="82682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DD11BB-1193-4EED-BDF9-B952D7AEDDCA}" type="slidenum">
              <a:rPr b="0" lang="es-ES" sz="1200" spc="-1" strike="noStrike">
                <a:solidFill>
                  <a:srgbClr val="82682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7"/>
    <p:sldLayoutId id="2147483806" r:id="rId8"/>
    <p:sldLayoutId id="2147483807" r:id="rId9"/>
    <p:sldLayoutId id="2147483808" r:id="rId10"/>
    <p:sldLayoutId id="2147483809" r:id="rId11"/>
    <p:sldLayoutId id="2147483810" r:id="rId12"/>
    <p:sldLayoutId id="2147483811" r:id="rId13"/>
    <p:sldLayoutId id="2147483812" r:id="rId14"/>
    <p:sldLayoutId id="2147483813" r:id="rId15"/>
    <p:sldLayoutId id="2147483814" r:id="rId16"/>
    <p:sldLayoutId id="2147483815" r:id="rId17"/>
    <p:sldLayoutId id="2147483816" r:id="rId18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5" name="Picture 6" descr="TextPag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6" descr="standardRule.png"/>
          <p:cNvPicPr/>
          <p:nvPr/>
        </p:nvPicPr>
        <p:blipFill>
          <a:blip r:embed="rId4"/>
          <a:stretch/>
        </p:blipFill>
        <p:spPr>
          <a:xfrm>
            <a:off x="2705040" y="1523880"/>
            <a:ext cx="3733920" cy="1526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40000"/>
              </a:srgbClr>
            </a:outerShdw>
          </a:effectLst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sto MT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1" marL="89604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2" marL="13438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3" marL="179208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4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5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6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53722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1200" spc="-1" strike="noStrike">
                <a:solidFill>
                  <a:srgbClr val="82682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200" spc="-1" strike="noStrike">
                <a:solidFill>
                  <a:srgbClr val="82682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5716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4046400" y="6159600"/>
            <a:ext cx="105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1200" spc="-1" strike="noStrike">
                <a:solidFill>
                  <a:srgbClr val="82682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BD5E91-0928-4986-8E81-61D4B860EC68}" type="slidenum">
              <a:rPr b="0" lang="es-ES" sz="1200" spc="-1" strike="noStrike">
                <a:solidFill>
                  <a:srgbClr val="82682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8" name="Picture 6" descr="TextPag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6" descr="verticalRule.png"/>
          <p:cNvPicPr/>
          <p:nvPr/>
        </p:nvPicPr>
        <p:blipFill>
          <a:blip r:embed="rId4"/>
          <a:stretch/>
        </p:blipFill>
        <p:spPr>
          <a:xfrm>
            <a:off x="6513480" y="1562040"/>
            <a:ext cx="152280" cy="37339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40000"/>
              </a:srgbClr>
            </a:outerShdw>
          </a:effectLst>
        </p:spPr>
      </p:pic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sto MT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1" marL="89604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2" marL="13438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3" marL="179208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4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5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6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 type="dt" idx="43"/>
          </p:nvPr>
        </p:nvSpPr>
        <p:spPr>
          <a:xfrm>
            <a:off x="53722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1200" spc="-1" strike="noStrike">
                <a:solidFill>
                  <a:srgbClr val="82682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200" spc="-1" strike="noStrike">
                <a:solidFill>
                  <a:srgbClr val="82682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 type="ftr" idx="44"/>
          </p:nvPr>
        </p:nvSpPr>
        <p:spPr>
          <a:xfrm>
            <a:off x="5716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 type="sldNum" idx="45"/>
          </p:nvPr>
        </p:nvSpPr>
        <p:spPr>
          <a:xfrm>
            <a:off x="4046400" y="6159600"/>
            <a:ext cx="105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1200" spc="-1" strike="noStrike">
                <a:solidFill>
                  <a:srgbClr val="82682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AB7BD5-7972-40AC-B9CE-2EBBE7164F51}" type="slidenum">
              <a:rPr b="0" lang="es-ES" sz="1200" spc="-1" strike="noStrike">
                <a:solidFill>
                  <a:srgbClr val="82682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TitlePag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standardRule.png"/>
          <p:cNvPicPr/>
          <p:nvPr/>
        </p:nvPicPr>
        <p:blipFill>
          <a:blip r:embed="rId4"/>
          <a:stretch/>
        </p:blipFill>
        <p:spPr>
          <a:xfrm>
            <a:off x="2705040" y="4191120"/>
            <a:ext cx="3733920" cy="1522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40000"/>
              </a:srgbClr>
            </a:outerShdw>
          </a:effectLst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sto MT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1" marL="89604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2" marL="13438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3" marL="179208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4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5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6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3722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1200" spc="-1" strike="noStrike">
                <a:solidFill>
                  <a:srgbClr val="82682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200" spc="-1" strike="noStrike">
                <a:solidFill>
                  <a:srgbClr val="82682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5716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4046400" y="6159600"/>
            <a:ext cx="105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1200" spc="-1" strike="noStrike">
                <a:solidFill>
                  <a:srgbClr val="82682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0151F9-BDF4-49C8-BA28-44D1777B70B6}" type="slidenum">
              <a:rPr b="0" lang="es-ES" sz="1200" spc="-1" strike="noStrike">
                <a:solidFill>
                  <a:srgbClr val="82682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6" descr="TextPag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standardRule.png"/>
          <p:cNvPicPr/>
          <p:nvPr/>
        </p:nvPicPr>
        <p:blipFill>
          <a:blip r:embed="rId4"/>
          <a:stretch/>
        </p:blipFill>
        <p:spPr>
          <a:xfrm>
            <a:off x="2705040" y="1523880"/>
            <a:ext cx="3733920" cy="1526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40000"/>
              </a:srgbClr>
            </a:outerShdw>
          </a:effectLst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sto MT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1" marL="89604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2" marL="13438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3" marL="179208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4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5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6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53722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1200" spc="-1" strike="noStrike">
                <a:solidFill>
                  <a:srgbClr val="82682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200" spc="-1" strike="noStrike">
                <a:solidFill>
                  <a:srgbClr val="82682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5716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4046400" y="6159600"/>
            <a:ext cx="105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1200" spc="-1" strike="noStrike">
                <a:solidFill>
                  <a:srgbClr val="82682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82D848-86C3-42E8-9104-02F6C80465D5}" type="slidenum">
              <a:rPr b="0" lang="es-ES" sz="1200" spc="-1" strike="noStrike">
                <a:solidFill>
                  <a:srgbClr val="82682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7" descr="TitlePag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8" descr="standardRule.png"/>
          <p:cNvPicPr/>
          <p:nvPr/>
        </p:nvPicPr>
        <p:blipFill>
          <a:blip r:embed="rId4"/>
          <a:stretch/>
        </p:blipFill>
        <p:spPr>
          <a:xfrm>
            <a:off x="2705040" y="4572000"/>
            <a:ext cx="3733920" cy="1522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40000"/>
              </a:srgbClr>
            </a:outerShdw>
          </a:effectLst>
        </p:spPr>
      </p:pic>
      <p:pic>
        <p:nvPicPr>
          <p:cNvPr id="130" name="Picture 9" descr="pictureStamp-Frame.png"/>
          <p:cNvPicPr/>
          <p:nvPr/>
        </p:nvPicPr>
        <p:blipFill>
          <a:blip r:embed="rId5"/>
          <a:stretch/>
        </p:blipFill>
        <p:spPr>
          <a:xfrm rot="21366600">
            <a:off x="5138280" y="599760"/>
            <a:ext cx="1609920" cy="2025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0" descr="pictureStamp-Frame.png"/>
          <p:cNvPicPr/>
          <p:nvPr/>
        </p:nvPicPr>
        <p:blipFill>
          <a:blip r:embed="rId6"/>
          <a:stretch/>
        </p:blipFill>
        <p:spPr>
          <a:xfrm rot="21329400">
            <a:off x="2073240" y="555480"/>
            <a:ext cx="1609920" cy="20257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3" descr="pictureStamp-Frame.png"/>
          <p:cNvPicPr/>
          <p:nvPr/>
        </p:nvPicPr>
        <p:blipFill>
          <a:blip r:embed="rId7"/>
          <a:stretch/>
        </p:blipFill>
        <p:spPr>
          <a:xfrm rot="151200">
            <a:off x="3592440" y="936360"/>
            <a:ext cx="1609920" cy="202392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sto MT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1" marL="89604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2" marL="13438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3" marL="179208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4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5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6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10"/>
          </p:nvPr>
        </p:nvSpPr>
        <p:spPr>
          <a:xfrm>
            <a:off x="53722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1200" spc="-1" strike="noStrike">
                <a:solidFill>
                  <a:srgbClr val="82682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200" spc="-1" strike="noStrike">
                <a:solidFill>
                  <a:srgbClr val="82682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1"/>
          </p:nvPr>
        </p:nvSpPr>
        <p:spPr>
          <a:xfrm>
            <a:off x="5716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2"/>
          </p:nvPr>
        </p:nvSpPr>
        <p:spPr>
          <a:xfrm>
            <a:off x="4046400" y="6159600"/>
            <a:ext cx="105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1200" spc="-1" strike="noStrike">
                <a:solidFill>
                  <a:srgbClr val="82682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C6662B-7B82-45F6-875A-54DB5BC179CA}" type="slidenum">
              <a:rPr b="0" lang="es-ES" sz="1200" spc="-1" strike="noStrike">
                <a:solidFill>
                  <a:srgbClr val="82682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8"/>
    <p:sldLayoutId id="2147483689" r:id="rId9"/>
    <p:sldLayoutId id="2147483690" r:id="rId10"/>
    <p:sldLayoutId id="2147483691" r:id="rId11"/>
    <p:sldLayoutId id="2147483692" r:id="rId12"/>
    <p:sldLayoutId id="2147483693" r:id="rId13"/>
    <p:sldLayoutId id="2147483694" r:id="rId14"/>
    <p:sldLayoutId id="2147483695" r:id="rId15"/>
    <p:sldLayoutId id="2147483696" r:id="rId16"/>
    <p:sldLayoutId id="2147483697" r:id="rId17"/>
    <p:sldLayoutId id="2147483698" r:id="rId18"/>
    <p:sldLayoutId id="2147483699" r:id="rId19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6" descr="TextPag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8" descr="standardRule.png"/>
          <p:cNvPicPr/>
          <p:nvPr/>
        </p:nvPicPr>
        <p:blipFill>
          <a:blip r:embed="rId4"/>
          <a:stretch/>
        </p:blipFill>
        <p:spPr>
          <a:xfrm>
            <a:off x="2705040" y="3352680"/>
            <a:ext cx="3733920" cy="1526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40000"/>
              </a:srgbClr>
            </a:outerShdw>
          </a:effectLst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sto MT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1" marL="89604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2" marL="13438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3" marL="179208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4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5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6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3"/>
          </p:nvPr>
        </p:nvSpPr>
        <p:spPr>
          <a:xfrm>
            <a:off x="53722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1200" spc="-1" strike="noStrike">
                <a:solidFill>
                  <a:srgbClr val="82682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200" spc="-1" strike="noStrike">
                <a:solidFill>
                  <a:srgbClr val="82682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4"/>
          </p:nvPr>
        </p:nvSpPr>
        <p:spPr>
          <a:xfrm>
            <a:off x="5716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5"/>
          </p:nvPr>
        </p:nvSpPr>
        <p:spPr>
          <a:xfrm>
            <a:off x="4046400" y="6159600"/>
            <a:ext cx="105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1200" spc="-1" strike="noStrike">
                <a:solidFill>
                  <a:srgbClr val="82682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B54939-382F-482E-8FD2-75453FBC15EF}" type="slidenum">
              <a:rPr b="0" lang="es-ES" sz="1200" spc="-1" strike="noStrike">
                <a:solidFill>
                  <a:srgbClr val="82682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6" descr="TextPag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8" descr="standardRule.png"/>
          <p:cNvPicPr/>
          <p:nvPr/>
        </p:nvPicPr>
        <p:blipFill>
          <a:blip r:embed="rId4"/>
          <a:stretch/>
        </p:blipFill>
        <p:spPr>
          <a:xfrm>
            <a:off x="2705040" y="1523880"/>
            <a:ext cx="3733920" cy="1526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40000"/>
              </a:srgbClr>
            </a:outerShdw>
          </a:effectLst>
        </p:spPr>
      </p:pic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sto MT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1" marL="89604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2" marL="13438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3" marL="179208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4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5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6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53722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1200" spc="-1" strike="noStrike">
                <a:solidFill>
                  <a:srgbClr val="82682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200" spc="-1" strike="noStrike">
                <a:solidFill>
                  <a:srgbClr val="82682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5716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4046400" y="6159600"/>
            <a:ext cx="105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1200" spc="-1" strike="noStrike">
                <a:solidFill>
                  <a:srgbClr val="82682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1FF641-CE6B-46FA-87AE-898A5603A4EB}" type="slidenum">
              <a:rPr b="0" lang="es-ES" sz="1200" spc="-1" strike="noStrike">
                <a:solidFill>
                  <a:srgbClr val="82682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6" descr="TextPag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10" descr="standardRule.png"/>
          <p:cNvPicPr/>
          <p:nvPr/>
        </p:nvPicPr>
        <p:blipFill>
          <a:blip r:embed="rId4"/>
          <a:stretch/>
        </p:blipFill>
        <p:spPr>
          <a:xfrm>
            <a:off x="2705040" y="1523880"/>
            <a:ext cx="3733920" cy="1526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40000"/>
              </a:srgbClr>
            </a:outerShdw>
          </a:effectLst>
        </p:spPr>
      </p:pic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sto MT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1" marL="89604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2" marL="13438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3" marL="179208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4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5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6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53722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1200" spc="-1" strike="noStrike">
                <a:solidFill>
                  <a:srgbClr val="82682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200" spc="-1" strike="noStrike">
                <a:solidFill>
                  <a:srgbClr val="82682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5716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4046400" y="6159600"/>
            <a:ext cx="105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1200" spc="-1" strike="noStrike">
                <a:solidFill>
                  <a:srgbClr val="82682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A56844-250D-4898-87BF-A275BC4B97F0}" type="slidenum">
              <a:rPr b="0" lang="es-ES" sz="1200" spc="-1" strike="noStrike">
                <a:solidFill>
                  <a:srgbClr val="82682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6" descr="TextPag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8" descr="shortRule.png"/>
          <p:cNvPicPr/>
          <p:nvPr/>
        </p:nvPicPr>
        <p:blipFill>
          <a:blip r:embed="rId4"/>
          <a:stretch/>
        </p:blipFill>
        <p:spPr>
          <a:xfrm>
            <a:off x="1222200" y="2305080"/>
            <a:ext cx="2495880" cy="954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40000"/>
              </a:srgbClr>
            </a:outerShdw>
          </a:effectLst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sto MT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1" marL="89604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2" marL="13438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3" marL="179208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4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5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6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53722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1200" spc="-1" strike="noStrike">
                <a:solidFill>
                  <a:srgbClr val="82682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200" spc="-1" strike="noStrike">
                <a:solidFill>
                  <a:srgbClr val="82682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5716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4046400" y="6159600"/>
            <a:ext cx="105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1200" spc="-1" strike="noStrike">
                <a:solidFill>
                  <a:srgbClr val="82682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7919F5-92F0-41E3-BE97-9EB001799C42}" type="slidenum">
              <a:rPr b="0" lang="es-ES" sz="1200" spc="-1" strike="noStrike">
                <a:solidFill>
                  <a:srgbClr val="82682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Picture 6" descr="TextPag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7" descr="shortRule.png"/>
          <p:cNvPicPr/>
          <p:nvPr/>
        </p:nvPicPr>
        <p:blipFill>
          <a:blip r:embed="rId4"/>
          <a:stretch/>
        </p:blipFill>
        <p:spPr>
          <a:xfrm>
            <a:off x="1222200" y="2305080"/>
            <a:ext cx="2495880" cy="954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40000"/>
              </a:srgbClr>
            </a:outerShdw>
          </a:effectLst>
        </p:spPr>
      </p:pic>
      <p:pic>
        <p:nvPicPr>
          <p:cNvPr id="348" name="Picture 10" descr="parAvion.png"/>
          <p:cNvPicPr/>
          <p:nvPr/>
        </p:nvPicPr>
        <p:blipFill>
          <a:blip r:embed="rId5"/>
          <a:stretch/>
        </p:blipFill>
        <p:spPr>
          <a:xfrm rot="307800">
            <a:off x="6797160" y="537840"/>
            <a:ext cx="1808280" cy="517320"/>
          </a:xfrm>
          <a:prstGeom prst="rect">
            <a:avLst/>
          </a:prstGeom>
          <a:ln w="0">
            <a:noFill/>
          </a:ln>
        </p:spPr>
      </p:pic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sto MT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1" marL="89604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2" marL="13438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3" marL="179208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4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5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6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53722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1200" spc="-1" strike="noStrike">
                <a:solidFill>
                  <a:srgbClr val="82682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200" spc="-1" strike="noStrike">
                <a:solidFill>
                  <a:srgbClr val="82682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5716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4046400" y="6159600"/>
            <a:ext cx="105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1200" spc="-1" strike="noStrike">
                <a:solidFill>
                  <a:srgbClr val="82682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C23E0C-7BF3-465B-83C6-B1A9E72CF50F}" type="slidenum">
              <a:rPr b="0" lang="es-ES" sz="1200" spc="-1" strike="noStrike">
                <a:solidFill>
                  <a:srgbClr val="82682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6 Imagen" descr="http://4.bp.blogspot.com/-2J6Q5b3Iqsc/TgxH0AKQQNI/AAAAAAAAAC4/EXj7wviOOGw/s1600/evaluacion_justa%255B1%255D.jpg"/>
          <p:cNvPicPr/>
          <p:nvPr/>
        </p:nvPicPr>
        <p:blipFill>
          <a:blip r:embed="rId1"/>
          <a:stretch/>
        </p:blipFill>
        <p:spPr>
          <a:xfrm>
            <a:off x="1066680" y="987480"/>
            <a:ext cx="7373880" cy="521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sto MT"/>
              </a:rPr>
              <a:t>Momentos y tipos de la evaluación</a:t>
            </a:r>
            <a:endParaRPr b="0" lang="en-US" sz="3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68" name=""/>
          <p:cNvSpPr txBox="1"/>
          <p:nvPr/>
        </p:nvSpPr>
        <p:spPr>
          <a:xfrm>
            <a:off x="0" y="1417320"/>
            <a:ext cx="91440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 algn="just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sto MT"/>
              </a:rPr>
              <a:t>Inicial (Diagnóstica): Su objetivo es establecer una linea base de aprendizaje para diseñar las estrategias de intervención docente.</a:t>
            </a:r>
            <a:endParaRPr b="0" lang="en-US" sz="3200" spc="-1" strike="noStrike">
              <a:solidFill>
                <a:srgbClr val="000000"/>
              </a:solidFill>
              <a:latin typeface="Calisto MT"/>
            </a:endParaRPr>
          </a:p>
          <a:p>
            <a:pPr marL="443160" indent="-443160" algn="just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sto MT"/>
              </a:rPr>
              <a:t>De proceso (Formativa): Permite valorar si la planificación se está realizando de acuerdo con lo planeado.</a:t>
            </a:r>
            <a:endParaRPr b="0" lang="en-US" sz="3200" spc="-1" strike="noStrike">
              <a:solidFill>
                <a:srgbClr val="000000"/>
              </a:solidFill>
              <a:latin typeface="Calisto MT"/>
            </a:endParaRPr>
          </a:p>
          <a:p>
            <a:pPr marL="443160" indent="-443160" algn="just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sto MT"/>
              </a:rPr>
              <a:t>Final (Sumativa): Promueve que se obtenga un juicio global de avance en el logro de los aprendizajes esperados.</a:t>
            </a:r>
            <a:endParaRPr b="0" lang="en-US" sz="32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sto MT"/>
              </a:rPr>
              <a:t>Los elementos de la evaluación</a:t>
            </a:r>
            <a:endParaRPr b="0" lang="en-US" sz="3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70" name=""/>
          <p:cNvSpPr txBox="1"/>
          <p:nvPr/>
        </p:nvSpPr>
        <p:spPr>
          <a:xfrm>
            <a:off x="571320" y="1904760"/>
            <a:ext cx="8001000" cy="450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sto MT"/>
              </a:rPr>
              <a:t>¿Qué se evalúa? </a:t>
            </a:r>
            <a:r>
              <a:rPr b="0" lang="en-US" sz="3600" spc="-1" strike="noStrike">
                <a:solidFill>
                  <a:srgbClr val="000000"/>
                </a:solidFill>
                <a:latin typeface="Calisto MT"/>
              </a:rPr>
              <a:t>El objeto de  evaluación son los aprendizajes esperados.</a:t>
            </a:r>
            <a:endParaRPr b="0" lang="en-US" sz="3600" spc="-1" strike="noStrike">
              <a:solidFill>
                <a:srgbClr val="000000"/>
              </a:solidFill>
              <a:latin typeface="Calisto MT"/>
            </a:endParaRPr>
          </a:p>
          <a:p>
            <a:pPr marL="457200" indent="-457200" algn="just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sto MT"/>
              </a:rPr>
              <a:t>¿Para qué se evalúa? </a:t>
            </a:r>
            <a:r>
              <a:rPr b="0" lang="en-US" sz="3600" spc="-1" strike="noStrike">
                <a:solidFill>
                  <a:srgbClr val="000000"/>
                </a:solidFill>
                <a:latin typeface="Calisto MT"/>
              </a:rPr>
              <a:t>Se evalúa para aprender y en consecuencia  mejorar los procesos de enseñanza y de aprendizaje.</a:t>
            </a:r>
            <a:endParaRPr b="0" lang="en-US" sz="3600" spc="-1" strike="noStrike">
              <a:solidFill>
                <a:srgbClr val="000000"/>
              </a:solidFill>
              <a:latin typeface="Calisto MT"/>
            </a:endParaRPr>
          </a:p>
          <a:p>
            <a:pPr marL="457200" indent="-45720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sto MT"/>
              </a:rPr>
              <a:t>Los elementos de la evaluación</a:t>
            </a:r>
            <a:endParaRPr b="0" lang="en-US" sz="3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72" name=""/>
          <p:cNvSpPr txBox="1"/>
          <p:nvPr/>
        </p:nvSpPr>
        <p:spPr>
          <a:xfrm>
            <a:off x="571320" y="1904760"/>
            <a:ext cx="8001000" cy="450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 algn="just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sto MT"/>
              </a:rPr>
              <a:t>¿Quiénes evalúan? </a:t>
            </a:r>
            <a:r>
              <a:rPr b="0" lang="en-US" sz="3600" spc="-1" strike="noStrike">
                <a:solidFill>
                  <a:srgbClr val="000000"/>
                </a:solidFill>
                <a:latin typeface="Calisto MT"/>
              </a:rPr>
              <a:t>El docente frente a grupo, mediante tres formas: la interna (sólo el docente), la externa (agente ajeno al centro escolar) y la participativa (involucra alumnos, otros docentes y directivos y permite  establecer acuerdos y negociaciones).</a:t>
            </a:r>
            <a:endParaRPr b="0" lang="en-US" sz="3600" spc="-1" strike="noStrike">
              <a:solidFill>
                <a:srgbClr val="000000"/>
              </a:solidFill>
              <a:latin typeface="Calisto MT"/>
            </a:endParaRPr>
          </a:p>
          <a:p>
            <a:pPr marL="443160" indent="-44316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sto MT"/>
              </a:rPr>
              <a:t>Los elementos de la evaluación</a:t>
            </a:r>
            <a:endParaRPr b="0" lang="en-US" sz="3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74" name=""/>
          <p:cNvSpPr txBox="1"/>
          <p:nvPr/>
        </p:nvSpPr>
        <p:spPr>
          <a:xfrm>
            <a:off x="571320" y="1904760"/>
            <a:ext cx="8001000" cy="450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sto MT"/>
              </a:rPr>
              <a:t>¿Cuándo se evalúa? </a:t>
            </a:r>
            <a:r>
              <a:rPr b="0" lang="en-US" sz="3600" spc="-1" strike="noStrike">
                <a:solidFill>
                  <a:srgbClr val="000000"/>
                </a:solidFill>
                <a:latin typeface="Calisto MT"/>
              </a:rPr>
              <a:t>La evaluación es un proceso cíclico que se lleva a cabo de manera sistemática y consiste en tres grandes fases: inicio, proceso y final.</a:t>
            </a:r>
            <a:endParaRPr b="0" lang="en-US" sz="3600" spc="-1" strike="noStrike">
              <a:solidFill>
                <a:srgbClr val="000000"/>
              </a:solidFill>
              <a:latin typeface="Calisto MT"/>
            </a:endParaRPr>
          </a:p>
          <a:p>
            <a:pPr marL="457200" indent="-45720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sto MT"/>
              </a:rPr>
              <a:t>Los elementos de la evaluación</a:t>
            </a:r>
            <a:endParaRPr b="0" lang="en-US" sz="3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76" name=""/>
          <p:cNvSpPr txBox="1"/>
          <p:nvPr/>
        </p:nvSpPr>
        <p:spPr>
          <a:xfrm>
            <a:off x="571320" y="1904760"/>
            <a:ext cx="8001000" cy="450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sto MT"/>
              </a:rPr>
              <a:t>¿Cómo se evalúa? </a:t>
            </a:r>
            <a:r>
              <a:rPr b="0" lang="es-ES" sz="3600" spc="-1" strike="noStrike">
                <a:solidFill>
                  <a:srgbClr val="000000"/>
                </a:solidFill>
                <a:latin typeface="Calisto MT"/>
              </a:rPr>
              <a:t>Usando distintas técnicas e instrumentos para la recolección de información que pueden ser informales, semiformales y formales. En toodos los casos se obtienen evidencias cualitativas y cuantitativas.</a:t>
            </a:r>
            <a:endParaRPr b="0" lang="en-US" sz="3600" spc="-1" strike="noStrike">
              <a:solidFill>
                <a:srgbClr val="000000"/>
              </a:solidFill>
              <a:latin typeface="Calisto MT"/>
            </a:endParaRPr>
          </a:p>
          <a:p>
            <a:pPr marL="457200" indent="-45720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sto MT"/>
              </a:rPr>
              <a:t>Los elementos de la evaluación</a:t>
            </a:r>
            <a:endParaRPr b="0" lang="en-US" sz="3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571320" y="1904760"/>
            <a:ext cx="8001000" cy="450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sto MT"/>
              </a:rPr>
              <a:t>¿Cómo se emiten juicios? </a:t>
            </a:r>
            <a:r>
              <a:rPr b="0" lang="en-US" sz="3600" spc="-1" strike="noStrike">
                <a:solidFill>
                  <a:srgbClr val="000000"/>
                </a:solidFill>
                <a:latin typeface="Calisto MT"/>
              </a:rPr>
              <a:t>Identificando los aprendizajes esperados, seleccionando las evidencias de desempeño que permitan verificarlos y determinando los criterios que se usarán para evaluar las evidencias.</a:t>
            </a:r>
            <a:endParaRPr b="0" lang="en-US" sz="3600" spc="-1" strike="noStrike">
              <a:solidFill>
                <a:srgbClr val="000000"/>
              </a:solidFill>
              <a:latin typeface="Calisto MT"/>
            </a:endParaRPr>
          </a:p>
          <a:p>
            <a:pPr marL="457200" indent="-45720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sto MT"/>
              </a:rPr>
              <a:t>Los elementos de la evaluación</a:t>
            </a:r>
            <a:endParaRPr b="0" lang="en-US" sz="3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80" name=""/>
          <p:cNvSpPr txBox="1"/>
          <p:nvPr/>
        </p:nvSpPr>
        <p:spPr>
          <a:xfrm>
            <a:off x="571320" y="1904760"/>
            <a:ext cx="8001000" cy="450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sto MT"/>
              </a:rPr>
              <a:t>¿Cómo se distribuyen las responsabilidades de la evaluación? </a:t>
            </a:r>
            <a:r>
              <a:rPr b="0" lang="en-US" sz="3600" spc="-1" strike="noStrike">
                <a:solidFill>
                  <a:srgbClr val="000000"/>
                </a:solidFill>
                <a:latin typeface="Calisto MT"/>
              </a:rPr>
              <a:t>La evaluación es corresponsabilidad de alumnos con docentes y padres o tutores, además de las autoridades escolares y las autoridades educativas estatales y federales.</a:t>
            </a:r>
            <a:endParaRPr b="0" lang="en-US" sz="3600" spc="-1" strike="noStrike">
              <a:solidFill>
                <a:srgbClr val="000000"/>
              </a:solidFill>
              <a:latin typeface="Calisto MT"/>
            </a:endParaRPr>
          </a:p>
          <a:p>
            <a:pPr marL="457200" indent="-45720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sto MT"/>
              </a:rPr>
              <a:t>Los elementos de la evaluación</a:t>
            </a:r>
            <a:endParaRPr b="0" lang="en-US" sz="3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82" name=""/>
          <p:cNvSpPr txBox="1"/>
          <p:nvPr/>
        </p:nvSpPr>
        <p:spPr>
          <a:xfrm>
            <a:off x="571320" y="1904760"/>
            <a:ext cx="8001000" cy="450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sto MT"/>
              </a:rPr>
              <a:t>¿Qué se hace con los resultados de la evaluación? </a:t>
            </a:r>
            <a:r>
              <a:rPr b="0" lang="en-US" sz="3600" spc="-1" strike="noStrike">
                <a:solidFill>
                  <a:srgbClr val="000000"/>
                </a:solidFill>
                <a:latin typeface="Calisto MT"/>
              </a:rPr>
              <a:t>Deben analizarse para identificar las áreas de mejora y tomar decisiones que permitan avanzar hacia las metas que se esperan en beneficio de los alumnos.</a:t>
            </a:r>
            <a:endParaRPr b="0" lang="en-US" sz="36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sto MT"/>
              </a:rPr>
              <a:t>El docente que evalúa con base en el enfoque formativo</a:t>
            </a:r>
            <a:endParaRPr b="0" lang="en-US" sz="3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84" name=""/>
          <p:cNvSpPr txBox="1"/>
          <p:nvPr/>
        </p:nvSpPr>
        <p:spPr>
          <a:xfrm>
            <a:off x="571320" y="1904760"/>
            <a:ext cx="800100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sto MT"/>
              </a:rPr>
              <a:t>Es un mediador entre el conocimiento y el aprendizaje de sus alumnos.</a:t>
            </a:r>
            <a:endParaRPr b="0" lang="en-US" sz="3600" spc="-1" strike="noStrike">
              <a:solidFill>
                <a:srgbClr val="000000"/>
              </a:solidFill>
              <a:latin typeface="Calisto MT"/>
            </a:endParaRPr>
          </a:p>
          <a:p>
            <a:pPr marL="457200" indent="-457200" algn="just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sto MT"/>
              </a:rPr>
              <a:t>Es un profesional reflexivo que de manera crítica examina su práctica, toma decisiones y soluciona problemas.</a:t>
            </a:r>
            <a:endParaRPr b="0" lang="en-US" sz="36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sto MT"/>
              </a:rPr>
              <a:t>El docente que evalúa con base en el enfoque formativo</a:t>
            </a:r>
            <a:endParaRPr b="0" lang="en-US" sz="3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86" name=""/>
          <p:cNvSpPr txBox="1"/>
          <p:nvPr/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20480" indent="-42048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sto MT"/>
              </a:rPr>
              <a:t>Promueve aprendizajes significativos.</a:t>
            </a:r>
            <a:endParaRPr b="0" lang="en-US" sz="3600" spc="-1" strike="noStrike">
              <a:solidFill>
                <a:srgbClr val="000000"/>
              </a:solidFill>
              <a:latin typeface="Calisto MT"/>
            </a:endParaRPr>
          </a:p>
          <a:p>
            <a:pPr marL="420480" indent="-42048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sto MT"/>
              </a:rPr>
              <a:t>Presta ayuda pedagógica de acuerdo a las necesidades de los alumnos.</a:t>
            </a:r>
            <a:endParaRPr b="0" lang="en-US" sz="3600" spc="-1" strike="noStrike">
              <a:solidFill>
                <a:srgbClr val="000000"/>
              </a:solidFill>
              <a:latin typeface="Calisto MT"/>
            </a:endParaRPr>
          </a:p>
          <a:p>
            <a:pPr marL="420480" indent="-42048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sto MT"/>
              </a:rPr>
              <a:t>Establece como meta la autonomía de los alumnos.</a:t>
            </a:r>
            <a:endParaRPr b="0" lang="en-US" sz="36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2" name="Imagen 4" descr=""/>
          <p:cNvPicPr/>
          <p:nvPr/>
        </p:nvPicPr>
        <p:blipFill>
          <a:blip r:embed="rId1"/>
          <a:stretch/>
        </p:blipFill>
        <p:spPr>
          <a:xfrm>
            <a:off x="1955880" y="309600"/>
            <a:ext cx="4743360" cy="62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sto MT"/>
              </a:rPr>
              <a:t>Un modelo de evaluación con enfoque formativo</a:t>
            </a:r>
            <a:endParaRPr b="0" lang="en-US" sz="3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88" name=""/>
          <p:cNvSpPr txBox="1"/>
          <p:nvPr/>
        </p:nvSpPr>
        <p:spPr>
          <a:xfrm>
            <a:off x="247680" y="1703160"/>
            <a:ext cx="8610480" cy="49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447840" algn="just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sto MT"/>
              </a:rPr>
              <a:t>Claridad respecto a los aprendizajes esperados, los criterios de evaluación y reconocimiento de los aprendizajes con que cuentan los alumnos.</a:t>
            </a:r>
            <a:endParaRPr b="0" lang="en-US" sz="3200" spc="-1" strike="noStrike">
              <a:solidFill>
                <a:srgbClr val="000000"/>
              </a:solidFill>
              <a:latin typeface="Calisto MT"/>
            </a:endParaRPr>
          </a:p>
          <a:p>
            <a:pPr marL="447840" indent="-447840" algn="just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sto MT"/>
              </a:rPr>
              <a:t>La evaluación debe darse paralelamente al proceso de aprendizaje.</a:t>
            </a:r>
            <a:endParaRPr b="0" lang="en-US" sz="3200" spc="-1" strike="noStrike">
              <a:solidFill>
                <a:srgbClr val="000000"/>
              </a:solidFill>
              <a:latin typeface="Calisto MT"/>
            </a:endParaRPr>
          </a:p>
          <a:p>
            <a:pPr marL="447840" indent="-447840" algn="just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sto MT"/>
              </a:rPr>
              <a:t>Retroalimentar el trabajo de los alumnos para subsanar las dificultades detectadas en el aprendizaje.</a:t>
            </a:r>
            <a:endParaRPr b="0" lang="en-US" sz="32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17440" y="274320"/>
            <a:ext cx="86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sto MT"/>
              </a:rPr>
              <a:t>¿Cómo se define la evaluación de los aprendizajes desde el enfoque formativo?</a:t>
            </a:r>
            <a:endParaRPr b="0" lang="en-US" sz="3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54" name=""/>
          <p:cNvSpPr txBox="1"/>
          <p:nvPr/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just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sto MT"/>
              </a:rPr>
              <a:t>Es </a:t>
            </a:r>
            <a:r>
              <a:rPr b="0" lang="es-ES_tradnl" sz="3600" spc="-1" strike="noStrike">
                <a:solidFill>
                  <a:srgbClr val="000000"/>
                </a:solidFill>
                <a:latin typeface="Calisto MT"/>
              </a:rPr>
              <a:t>el proceso que permite obtener evidencias, elaborar juicios y brindar retroalimentación sobre los logros de aprendizaje de los alumnos a lo largo de su formación; por tanto, es parte constitutiva de la enseñanza y del aprendizaje” (SEP, 2011:22).</a:t>
            </a:r>
            <a:endParaRPr b="0" lang="en-US" sz="36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sto MT"/>
              </a:rPr>
              <a:t>La medición en el contexto formativo de la evaluación</a:t>
            </a:r>
            <a:endParaRPr b="0" lang="en-US" sz="3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56" name=""/>
          <p:cNvSpPr txBox="1"/>
          <p:nvPr/>
        </p:nvSpPr>
        <p:spPr>
          <a:xfrm>
            <a:off x="571320" y="24462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alisto MT"/>
              </a:rPr>
              <a:t>Se define como la asignación de un valor numérico a conocimientos, habilidades, valores o actitudes, logrados por los alumnos durante un periodo de corte, particularmente en primaria y secundaria.</a:t>
            </a:r>
            <a:endParaRPr b="0" lang="en-US" sz="36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sto MT"/>
              </a:rPr>
              <a:t>La estimación en el contexto formativo de la evaluación.</a:t>
            </a:r>
            <a:endParaRPr b="0" lang="en-US" sz="3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58" name=""/>
          <p:cNvSpPr txBox="1"/>
          <p:nvPr/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algn="just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alisto MT"/>
              </a:rPr>
              <a:t>Es la acción concreta de emitir un juicio de lo que ha aprendido un alumno, con base en evidencias cualitativas y cuantitativas, cuando sea el caso. </a:t>
            </a:r>
            <a:endParaRPr b="0" lang="en-US" sz="3600" spc="-1" strike="noStrike">
              <a:solidFill>
                <a:srgbClr val="000000"/>
              </a:solidFill>
              <a:latin typeface="Calisto MT"/>
            </a:endParaRPr>
          </a:p>
          <a:p>
            <a:pPr algn="just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alisto MT"/>
              </a:rPr>
              <a:t>Una forma de estimación en el ámbito escolar es la calificación.</a:t>
            </a:r>
            <a:endParaRPr b="0" lang="en-US" sz="36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sto MT"/>
              </a:rPr>
              <a:t>La calificación en el contexto formativo de la evaluación</a:t>
            </a:r>
            <a:endParaRPr b="0" lang="en-US" sz="3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60" name=""/>
          <p:cNvSpPr txBox="1"/>
          <p:nvPr/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sto MT"/>
              </a:rPr>
              <a:t>Calificar se refiere sólo a la expresión cualitativa del nivel de desempeño, </a:t>
            </a:r>
            <a:endParaRPr b="0" lang="en-US" sz="3600" spc="-1" strike="noStrike">
              <a:solidFill>
                <a:srgbClr val="000000"/>
              </a:solidFill>
              <a:latin typeface="Calisto MT"/>
            </a:endParaRPr>
          </a:p>
          <a:p>
            <a:pPr algn="just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sto MT"/>
              </a:rPr>
              <a:t>A: Destacado, B: Satisfactorio, C: Suficiente, y D: Insuficiente,</a:t>
            </a:r>
            <a:endParaRPr b="0" lang="en-US" sz="3600" spc="-1" strike="noStrike">
              <a:solidFill>
                <a:srgbClr val="000000"/>
              </a:solidFill>
              <a:latin typeface="Calisto MT"/>
            </a:endParaRPr>
          </a:p>
          <a:p>
            <a:pPr algn="just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sto MT"/>
              </a:rPr>
              <a:t>o cuantitativa (10, 9, 8, 7, 6, 5).</a:t>
            </a:r>
            <a:endParaRPr b="0" lang="en-US" sz="3600" spc="-1" strike="noStrike">
              <a:solidFill>
                <a:srgbClr val="000000"/>
              </a:solidFill>
              <a:latin typeface="Calisto MT"/>
            </a:endParaRPr>
          </a:p>
          <a:p>
            <a:pPr algn="just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sto MT"/>
              </a:rPr>
              <a:t>La acreditación</a:t>
            </a:r>
            <a:endParaRPr b="0" lang="en-US" sz="3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62" name=""/>
          <p:cNvSpPr txBox="1"/>
          <p:nvPr/>
        </p:nvSpPr>
        <p:spPr>
          <a:xfrm>
            <a:off x="571320" y="1904760"/>
            <a:ext cx="8001000" cy="45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algn="just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alisto MT"/>
              </a:rPr>
              <a:t>Consiste en tomar la decisión respecto a la pertinencia de que un alumno acceda al grado escolar o nivel educativo siguiente o termine la educación básica, en función de las evidencias cualitativas y cuantitativas que se tienen sobre el logro de los aprendizajes esperados de cada alumno.</a:t>
            </a:r>
            <a:endParaRPr b="0" lang="en-US" sz="36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sto MT"/>
              </a:rPr>
              <a:t>La evaluación desde el enfoque formativo</a:t>
            </a:r>
            <a:endParaRPr b="0" lang="en-US" sz="3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64" name=""/>
          <p:cNvSpPr txBox="1"/>
          <p:nvPr/>
        </p:nvSpPr>
        <p:spPr>
          <a:xfrm>
            <a:off x="247680" y="1417680"/>
            <a:ext cx="86724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 algn="just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alisto MT"/>
              </a:rPr>
              <a:t>Además de tener como propósito contribuir a la mejora del aprendizaje, regula el proceso de enseñanza y de aprendizaje para adaptar o ajustar las condiciones pedagógicas  en función de las necesidades de los alumnos.</a:t>
            </a:r>
            <a:endParaRPr b="0" lang="en-US" sz="3600" spc="-1" strike="noStrike">
              <a:solidFill>
                <a:srgbClr val="000000"/>
              </a:solidFill>
              <a:latin typeface="Calisto MT"/>
            </a:endParaRPr>
          </a:p>
          <a:p>
            <a:pPr marL="443160" indent="-443160" algn="just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alisto MT"/>
              </a:rPr>
              <a:t>El proceso es más importante que el resultado y éste se convierte en un elemento de reflexión para la mejora.</a:t>
            </a:r>
            <a:endParaRPr b="0" lang="en-US" sz="36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sto MT"/>
              </a:rPr>
              <a:t>Funciones de la evaluación</a:t>
            </a:r>
            <a:endParaRPr b="0" lang="en-US" sz="3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66" name=""/>
          <p:cNvSpPr txBox="1"/>
          <p:nvPr/>
        </p:nvSpPr>
        <p:spPr>
          <a:xfrm>
            <a:off x="217440" y="1641240"/>
            <a:ext cx="8702640" cy="48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29480" indent="-429480" algn="just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sto MT"/>
              </a:rPr>
              <a:t>Pedagógica: Permite identificar las necesidades de los alumnos, mediante la reflexión y mejora de la enseñanza y del aprendizaje.</a:t>
            </a:r>
            <a:endParaRPr b="0" lang="en-US" sz="3600" spc="-1" strike="noStrike">
              <a:solidFill>
                <a:srgbClr val="000000"/>
              </a:solidFill>
              <a:latin typeface="Calisto MT"/>
            </a:endParaRPr>
          </a:p>
          <a:p>
            <a:pPr marL="429480" indent="-429480" algn="just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sto MT"/>
              </a:rPr>
              <a:t>Social: Se relaciona con la creación de oportunidades para seguir aprendiendo y la comunicación de resultados al final de un periodo para hacer ajustes.</a:t>
            </a:r>
            <a:endParaRPr b="0" lang="en-US" sz="36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11T01:03:54Z</dcterms:created>
  <dc:creator>JERÓNIMO ONTIVEROS PÉREZ</dc:creator>
  <dc:description/>
  <dc:language>en-US</dc:language>
  <cp:lastModifiedBy>JERÓNIMO ONTIVEROS PÉREZ</cp:lastModifiedBy>
  <dcterms:modified xsi:type="dcterms:W3CDTF">2013-06-12T03:37:26Z</dcterms:modified>
  <cp:revision>19</cp:revision>
  <dc:subject/>
  <dc:title>Presentación de PowerPoint</dc:title>
</cp:coreProperties>
</file>